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wmf" ContentType="image/x-wmf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8AA1-6881-43F0-A830-6FE8187EB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FAC7-8D5E-4083-8F1C-4892DC2BD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o lis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mail teachers about bring an EDI lesson with clear objectives and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 time and 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to have a note pad for each table in addition to other mater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one example and no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6A33-F955-4E43-88F5-46F812A03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job alik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FAD0-C89B-451A-9B34-8718CB0B7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E2CB-46DB-4FEA-B799-72FADE859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er should not talk through the components of the model (Boring). Have the staff conduct a  table talk about the main compon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: “At your table, define and give examples of each of the component.” Do an informal sharing and relate to what presenter d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components in direct instruction phase, not a checkli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U is performed throughout to verify students have learned what was taught while it was being tau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 – must be done before Jan 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9FBF-DC2B-41CC-8CBF-3A0A7EFCE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E401-A986-4DE0-B7A6-9EFE34771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vision - What is good tea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rhythm - common sets of best pract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ue individualism  at the same time, reduce variance to ensure qual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C91D-5181-42C7-9C97-63AB9FA54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 them the design tem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activity to bring the team together – Kar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6435-5ADE-4C9A-B458-11780DE69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25DC-2361-4341-92CC-7DD2DF950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eacher will bring a lesson with EDI framework and clear learning targ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need to model to make the direction very cl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530E-71A1-4621-868E-8892B1683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2F9F-3C6B-472C-BB17-D41FDFD8C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U - Pair sh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 to Quadrant A, B, C and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is in Quadrant A.  Throughout the workshop, we will ask participants to connect learning to scenarios in model lessons, which is quadrant B or C.  Our goal, however, is that all teachers will be able to implement them in the authentic settings and reflect their use with mentors and administrators.  This is quadrant 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end when the iceberg model is used, we should relate to Quadrant A- D again.  Tip of iceberg is Quadrant A, but the deeper side of our learning is quadrant 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listen to the conversation, pay special attention to teacher decisions and write notes down about why they make those deci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note taking sheet? Note boo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01CE-3CFA-4D20-A6F6-55187FA7B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don’t have time, should we change this to pair sh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C10D-9D04-4346-ABD2-12A657F5D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53AC-A8EF-4F1B-A920-AD0C77FEC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66FB-19CC-4497-8CCC-7FECABD5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7007-C63A-4535-8130-B895392C7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492C-4891-4D47-A6AE-3324C3FBA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A4DA-DEC4-465D-82AA-0A0FE5AB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F53A-4740-4D6B-A827-15FD81A4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60DC-9620-46A0-98B6-99A02839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F240-82C7-42FE-90BC-0D2C0F85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7D99-D009-4225-8A0F-4A74CDCF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1BD1-FA8D-45A2-9984-B163183D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7F95-0CFA-4C98-A479-5D89C203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9C48-37B5-4EDA-8498-F883B4D7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4258-5C1E-4587-95D1-7F0F96CB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DFF9-994B-483B-B8C8-9D24EE13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F47A-E8D1-4013-80EF-FE863362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C5EF-4A93-4F70-809D-2C46E99E5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BB7C-083A-43FA-ACC1-FA9AEE825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EE12A-53A9-4EF7-8D78-0349ACB4D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5926F-8908-4A07-A02C-E2902AC1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6BB27-B964-4D3E-B2B8-C8B07D53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76A7D-19A0-4F9C-9FCA-923CAF77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32293-AC21-44F8-8AEC-2D0015F7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7D15-B1DD-401F-A316-F7769891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A7340-4B0A-4BAA-AF1A-A43D0884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D7826-C609-436C-B7C3-5EDAD40C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336F0-9654-43FD-A364-E3C900E0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5B8D8-468C-4ED8-9DDD-92A49E84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748E4-D0CA-461A-9F46-F855D165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DA44B-3C6D-48F8-8E23-5CF39BDBC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6F47E-5D15-4061-BD83-F314B0136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B64E0-0F09-416A-A57A-90A9C732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4D69E-682B-4D2D-AB21-3C861C37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0DE84-98D4-44A3-B2FB-24F5AF88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8FBF-61BA-4F5A-9850-4DF0E802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D4738-85E2-4C18-816F-C0C7905A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84B69-B9C3-4E89-BD10-EA5FB3B8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4F1CD-4205-42DB-85CC-E2A77517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29249-CF94-4CDC-ADBF-8283914F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7AEFA-54CB-48B8-8923-A00D5079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A124F-B520-4C9E-8EE8-0A15CD94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4C6B4-BBA2-4644-8DE5-3BFD2BDC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BA522-4510-4D9A-A21F-200E9E736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4B7F4-07CE-4B2F-8E53-1E70AF217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F8D5-B81E-44EE-BF93-C742D05C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ADBC-D1D3-46D8-9249-290D00E3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BFE6-6FDB-4C3D-8B31-BB165435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9139-3682-41FC-85AE-3AE900DA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1B17-EBCC-4E90-8C28-248835D4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161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33B8-F96C-497F-ACDC-8F38A5448BEB}" type="slidenum">
              <a:rPr b="0" lang="en-US" sz="1200" spc="-1" strike="noStrike">
                <a:solidFill>
                  <a:srgbClr val="6161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7640-1A24-4E64-8D18-8659E91EFF18}" type="slidenum">
              <a:rPr b="0" lang="en-US" sz="1200" spc="-1" strike="noStrike">
                <a:solidFill>
                  <a:srgbClr val="c8c8c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973B-540B-447C-B2ED-440FD1D47EDD}" type="slidenum">
              <a:rPr b="0" lang="en-US" sz="1200" spc="-1" strike="noStrike">
                <a:solidFill>
                  <a:srgbClr val="c8c8c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161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9209-397E-44FC-8A37-3DDD91BF122F}" type="slidenum">
              <a:rPr b="0" lang="en-US" sz="1200" spc="-1" strike="noStrike">
                <a:solidFill>
                  <a:srgbClr val="6161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755640" y="1444680"/>
            <a:ext cx="8217000" cy="18414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523520" y="33526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ew Teacher Learning Seri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ctober 30, 2009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666666"/>
                </a:solidFill>
                <a:latin typeface="Calibri"/>
              </a:rPr>
              <a:t>Expand Skill Statements to Scaffold</a:t>
            </a:r>
            <a:endParaRPr b="0" lang="en-US" sz="45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6" descr="C:\Users\ychen\AppData\Local\Microsoft\Windows\Temporary Internet Files\Content.IE5\TGIQTVR5\MCj02958590000[1].wmf"/>
          <p:cNvPicPr/>
          <p:nvPr/>
        </p:nvPicPr>
        <p:blipFill>
          <a:blip r:embed="rId1"/>
          <a:stretch/>
        </p:blipFill>
        <p:spPr>
          <a:xfrm>
            <a:off x="2362320" y="1981080"/>
            <a:ext cx="529416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Guided Practice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oup should be no bigger than 4 pers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oose a facilitator, a recorder and a reporter. (If only two, share the rol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Expand the skill statements to scaffold lear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eep the learning target in min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ink about where your students a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ways push to the highest level of cognitive deman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Public Sharing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how both non-expanded and expand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nk alou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Oval 2"/>
          <p:cNvSpPr/>
          <p:nvPr/>
        </p:nvSpPr>
        <p:spPr>
          <a:xfrm>
            <a:off x="990720" y="380880"/>
            <a:ext cx="6933960" cy="6172200"/>
          </a:xfrm>
          <a:prstGeom prst="ellipse">
            <a:avLst/>
          </a:prstGeom>
          <a:solidFill>
            <a:srgbClr val="ff800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1828800" y="1143000"/>
            <a:ext cx="5334120" cy="4648320"/>
            <a:chOff x="1828800" y="1143000"/>
            <a:chExt cx="5334120" cy="4648320"/>
          </a:xfrm>
        </p:grpSpPr>
        <p:sp>
          <p:nvSpPr>
            <p:cNvPr id="235" name="Oval 4"/>
            <p:cNvSpPr/>
            <p:nvPr/>
          </p:nvSpPr>
          <p:spPr>
            <a:xfrm>
              <a:off x="1828800" y="1143000"/>
              <a:ext cx="5334120" cy="46483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5"/>
            <p:cNvSpPr/>
            <p:nvPr/>
          </p:nvSpPr>
          <p:spPr>
            <a:xfrm>
              <a:off x="4952880" y="1752480"/>
              <a:ext cx="1143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91919"/>
                  </a:solidFill>
                  <a:latin typeface="Times New Roman"/>
                </a:rPr>
                <a:t>Obje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6"/>
            <p:cNvSpPr/>
            <p:nvPr/>
          </p:nvSpPr>
          <p:spPr>
            <a:xfrm>
              <a:off x="5867280" y="2514600"/>
              <a:ext cx="914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91919"/>
                  </a:solidFill>
                  <a:latin typeface="Times New Roman"/>
                </a:rPr>
                <a:t>Preview Revi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7"/>
            <p:cNvSpPr/>
            <p:nvPr/>
          </p:nvSpPr>
          <p:spPr>
            <a:xfrm>
              <a:off x="5867280" y="3581280"/>
              <a:ext cx="1295640" cy="11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91919"/>
                  </a:solidFill>
                  <a:latin typeface="Times New Roman"/>
                </a:rPr>
                <a:t>Explain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91919"/>
                  </a:solidFill>
                  <a:latin typeface="Times New Roman"/>
                </a:rPr>
                <a:t>Model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91919"/>
                  </a:solidFill>
                  <a:latin typeface="Times New Roman"/>
                </a:rPr>
                <a:t>Demonstr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Text Box 8"/>
            <p:cNvSpPr/>
            <p:nvPr/>
          </p:nvSpPr>
          <p:spPr>
            <a:xfrm>
              <a:off x="4952880" y="4724280"/>
              <a:ext cx="914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91919"/>
                  </a:solidFill>
                  <a:latin typeface="Times New Roman"/>
                </a:rPr>
                <a:t>Guided Pract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Text Box 9"/>
            <p:cNvSpPr/>
            <p:nvPr/>
          </p:nvSpPr>
          <p:spPr>
            <a:xfrm>
              <a:off x="3733920" y="495288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91919"/>
                  </a:solidFill>
                  <a:latin typeface="Times New Roman"/>
                </a:rPr>
                <a:t>Clos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10"/>
            <p:cNvSpPr/>
            <p:nvPr/>
          </p:nvSpPr>
          <p:spPr>
            <a:xfrm>
              <a:off x="3048120" y="175248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91919"/>
                  </a:solidFill>
                  <a:latin typeface="Times New Roman"/>
                </a:rPr>
                <a:t>Maste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 Box 11"/>
            <p:cNvSpPr/>
            <p:nvPr/>
          </p:nvSpPr>
          <p:spPr>
            <a:xfrm>
              <a:off x="2438280" y="2286000"/>
              <a:ext cx="914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91919"/>
                  </a:solidFill>
                  <a:latin typeface="Times New Roman"/>
                </a:rPr>
                <a:t>Periodic Revi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12"/>
            <p:cNvSpPr/>
            <p:nvPr/>
          </p:nvSpPr>
          <p:spPr>
            <a:xfrm>
              <a:off x="2209680" y="3352680"/>
              <a:ext cx="838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91919"/>
                  </a:solidFill>
                  <a:latin typeface="Times New Roman"/>
                </a:rPr>
                <a:t>Daily suc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13"/>
            <p:cNvSpPr/>
            <p:nvPr/>
          </p:nvSpPr>
          <p:spPr>
            <a:xfrm>
              <a:off x="2209680" y="4191120"/>
              <a:ext cx="1295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91919"/>
                  </a:solidFill>
                  <a:latin typeface="Times New Roman"/>
                </a:rPr>
                <a:t>Independent pract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Oval 14"/>
          <p:cNvSpPr/>
          <p:nvPr/>
        </p:nvSpPr>
        <p:spPr>
          <a:xfrm>
            <a:off x="3048120" y="2209680"/>
            <a:ext cx="2895480" cy="2590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udents know h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o do independ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actice as a resul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f instru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WordArt 15"/>
          <p:cNvSpPr txBox="1"/>
          <p:nvPr/>
        </p:nvSpPr>
        <p:spPr>
          <a:xfrm rot="4286400">
            <a:off x="2017800" y="840240"/>
            <a:ext cx="5426280" cy="5288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139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oactive - CFU, Effective feedback, cues and prompt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7" name="WordArt 16"/>
          <p:cNvSpPr txBox="1"/>
          <p:nvPr/>
        </p:nvSpPr>
        <p:spPr>
          <a:xfrm rot="16610400">
            <a:off x="699840" y="1966320"/>
            <a:ext cx="4467240" cy="2819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eactive - Effective feed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8" name="Line 17"/>
          <p:cNvSpPr/>
          <p:nvPr/>
        </p:nvSpPr>
        <p:spPr>
          <a:xfrm flipV="1">
            <a:off x="4419720" y="380520"/>
            <a:ext cx="0" cy="1752840"/>
          </a:xfrm>
          <a:prstGeom prst="line">
            <a:avLst/>
          </a:prstGeom>
          <a:ln w="2844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8"/>
          <p:cNvSpPr/>
          <p:nvPr/>
        </p:nvSpPr>
        <p:spPr>
          <a:xfrm flipH="1">
            <a:off x="2743200" y="4572000"/>
            <a:ext cx="990720" cy="1523880"/>
          </a:xfrm>
          <a:prstGeom prst="line">
            <a:avLst/>
          </a:prstGeom>
          <a:ln w="2844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9"/>
          <p:cNvSpPr/>
          <p:nvPr/>
        </p:nvSpPr>
        <p:spPr>
          <a:xfrm>
            <a:off x="7391520" y="5508720"/>
            <a:ext cx="1752480" cy="163116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n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ki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Impor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Demo Lesson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cord observation on the EDI for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y special attention t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nection to “UBD” and “clear learning target” researc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vidence of scaffolding toward the culminating objectiv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lanned CFU/Assessment strategies before, during and after instru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Line of Learning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Picture 3" descr="C:\Users\ychen\AppData\Local\Microsoft\Windows\Temporary Internet Files\Content.IE5\692I7KWA\MPj04385850000[1].jpg"/>
          <p:cNvPicPr/>
          <p:nvPr/>
        </p:nvPicPr>
        <p:blipFill>
          <a:blip r:embed="rId1"/>
          <a:stretch/>
        </p:blipFill>
        <p:spPr>
          <a:xfrm>
            <a:off x="1752480" y="1905120"/>
            <a:ext cx="5562720" cy="3692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Synthesize Learning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isual representation that  includes previous and today’s lear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B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lear target/Learning objecti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D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sign and decis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pand skills/Scaffol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FU/V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Reciprocity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mplemen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rite expanded skill statements in map units and in lesson pla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mbed previous learning including EDI, CFU and LO with clear targets in less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ppor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bserve from Learning Labs with purposeful refle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ntor/partner and principal coach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666666"/>
                </a:solidFill>
                <a:latin typeface="Calibri"/>
              </a:rPr>
              <a:t>CCSD</a:t>
            </a:r>
            <a:br>
              <a:rPr sz="4500"/>
            </a:br>
            <a:r>
              <a:rPr b="0" lang="en-US" sz="4500" spc="-1" strike="noStrike">
                <a:solidFill>
                  <a:srgbClr val="666666"/>
                </a:solidFill>
                <a:latin typeface="Calibri"/>
              </a:rPr>
              <a:t>Mentor/Induction System</a:t>
            </a:r>
            <a:endParaRPr b="0" lang="en-US" sz="45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61" name="Picture 5" descr="LRO040"/>
          <p:cNvPicPr/>
          <p:nvPr/>
        </p:nvPicPr>
        <p:blipFill>
          <a:blip r:embed="rId1"/>
          <a:stretch/>
        </p:blipFill>
        <p:spPr>
          <a:xfrm>
            <a:off x="3097080" y="1828800"/>
            <a:ext cx="3264120" cy="36576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6"/>
          <p:cNvSpPr/>
          <p:nvPr/>
        </p:nvSpPr>
        <p:spPr>
          <a:xfrm>
            <a:off x="6553080" y="2362320"/>
            <a:ext cx="1752840" cy="1191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al coa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685800" y="2438280"/>
            <a:ext cx="2286000" cy="1191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3809880" y="5638680"/>
            <a:ext cx="1600200" cy="8254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762120" y="4114800"/>
            <a:ext cx="1904760" cy="1191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teacher worksh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6553080" y="4114800"/>
            <a:ext cx="1905120" cy="8254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 t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Work with your principal…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y next workshop - Be prepared to bring a designed unit (map) and a lesson using the unit/lesson design templ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UBD/EDI concept reflected in plann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xpanded skill statements in map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Clear learning objectives/targets in lesson pl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Planned CFU before, during and after instru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ommon Bonds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s is the social activity that Karla will design. I will fill it later once I know the activit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reeform 4"/>
          <p:cNvSpPr/>
          <p:nvPr/>
        </p:nvSpPr>
        <p:spPr>
          <a:xfrm>
            <a:off x="1752480" y="762120"/>
            <a:ext cx="5727960" cy="5244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4952880" y="6858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2057400" y="434340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stic, purposeful, integrated, thoughtful decision m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Next New Teacher Learning 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cember 7 on a PL 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-6: 7:30 – 10:3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7-12: 12:30 – 3:3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rticle to deepen your understanding about “Backward Design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Preview and Review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ighlight the learning targets in your less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how the three components in a learning objectiv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did your students do with this lesson? How do you know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er coach (Choose to do either or both) 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plain why the learning objective was clear to your students and how it helped them lear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vise to make it even more clear to enhance learn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Arial"/>
              </a:rPr>
              <a:t>Objectives of Today</a:t>
            </a:r>
            <a:r>
              <a:rPr b="0" lang="en-US" sz="4000" spc="-1" strike="noStrike">
                <a:solidFill>
                  <a:srgbClr val="666666"/>
                </a:solidFill>
                <a:latin typeface="Calibri"/>
              </a:rPr>
              <a:t>’</a:t>
            </a:r>
            <a:r>
              <a:rPr b="0" lang="en-US" sz="4000" spc="-1" strike="noStrike">
                <a:solidFill>
                  <a:srgbClr val="666666"/>
                </a:solidFill>
                <a:latin typeface="Arial"/>
              </a:rPr>
              <a:t>s PL</a:t>
            </a: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33520" y="167616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9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Connect </a:t>
            </a:r>
            <a:r>
              <a:rPr b="0" lang="en-US" sz="3600" spc="-1" strike="noStrike">
                <a:solidFill>
                  <a:srgbClr val="00b050"/>
                </a:solidFill>
                <a:latin typeface="Constantia"/>
              </a:rPr>
              <a:t>research to curriculum desig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9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Recognize</a:t>
            </a:r>
            <a:r>
              <a:rPr b="0" lang="en-US" sz="3600" spc="-1" strike="noStrike">
                <a:solidFill>
                  <a:srgbClr val="00b050"/>
                </a:solidFill>
                <a:latin typeface="Constantia"/>
              </a:rPr>
              <a:t> how the curriculum tool enhances lesson plann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9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Identify </a:t>
            </a:r>
            <a:r>
              <a:rPr b="0" lang="en-US" sz="3600" spc="-1" strike="noStrike">
                <a:solidFill>
                  <a:srgbClr val="008040"/>
                </a:solidFill>
                <a:latin typeface="Constantia"/>
              </a:rPr>
              <a:t>EDI components and learning targets from a model lesso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9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Write </a:t>
            </a:r>
            <a:r>
              <a:rPr b="0" lang="en-US" sz="3600" spc="-1" strike="noStrike">
                <a:solidFill>
                  <a:srgbClr val="008040"/>
                </a:solidFill>
                <a:latin typeface="Constantia"/>
              </a:rPr>
              <a:t>clear learning targets and expanded  skill statements </a:t>
            </a:r>
            <a:r>
              <a:rPr b="0" lang="en-US" sz="3600" spc="-1" strike="noStrike">
                <a:solidFill>
                  <a:srgbClr val="00349e"/>
                </a:solidFill>
                <a:latin typeface="Constantia"/>
              </a:rPr>
              <a:t>in lesson units and plan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Oval 2"/>
          <p:cNvSpPr/>
          <p:nvPr/>
        </p:nvSpPr>
        <p:spPr>
          <a:xfrm>
            <a:off x="380880" y="304920"/>
            <a:ext cx="2971800" cy="259056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Identify Desired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3"/>
          <p:cNvSpPr/>
          <p:nvPr/>
        </p:nvSpPr>
        <p:spPr>
          <a:xfrm>
            <a:off x="5638680" y="2819520"/>
            <a:ext cx="3124440" cy="259056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lan Learning Experiences &amp; Instruc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4"/>
          <p:cNvSpPr/>
          <p:nvPr/>
        </p:nvSpPr>
        <p:spPr>
          <a:xfrm>
            <a:off x="2971800" y="1676520"/>
            <a:ext cx="2971800" cy="251460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eter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cceptable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Rectangle 8" descr=""/>
          <p:cNvPicPr/>
          <p:nvPr/>
        </p:nvPicPr>
        <p:blipFill>
          <a:blip r:embed="rId1"/>
          <a:stretch/>
        </p:blipFill>
        <p:spPr>
          <a:xfrm>
            <a:off x="-304920" y="5181480"/>
            <a:ext cx="9839520" cy="1468440"/>
          </a:xfrm>
          <a:prstGeom prst="rect">
            <a:avLst/>
          </a:prstGeom>
          <a:ln w="0">
            <a:noFill/>
          </a:ln>
        </p:spPr>
      </p:pic>
      <p:sp>
        <p:nvSpPr>
          <p:cNvPr id="214" name="Curved Down Arrow 12"/>
          <p:cNvSpPr/>
          <p:nvPr/>
        </p:nvSpPr>
        <p:spPr>
          <a:xfrm>
            <a:off x="3505320" y="914400"/>
            <a:ext cx="1066680" cy="533520"/>
          </a:xfrm>
          <a:custGeom>
            <a:avLst/>
            <a:gdLst>
              <a:gd name="textAreaLeft" fmla="*/ 216720 w 1066680"/>
              <a:gd name="textAreaRight" fmla="*/ 783360 w 10666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75" hR="21600" stAng="10800000" swAng="5400000"/>
                <a:lnTo>
                  <a:pt x="11475" y="0"/>
                </a:lnTo>
                <a:arcTo wR="8775" hR="21600" stAng="-5400000" swAng="3453680"/>
                <a:lnTo>
                  <a:pt x="21321" y="16200"/>
                </a:lnTo>
                <a:lnTo>
                  <a:pt x="18900" y="21600"/>
                </a:lnTo>
                <a:lnTo>
                  <a:pt x="15921" y="16200"/>
                </a:lnTo>
                <a:lnTo>
                  <a:pt x="17271" y="16200"/>
                </a:lnTo>
                <a:arcTo wR="8775" hR="21600" stAng="-1946320" swAng="-3236521"/>
                <a:lnTo>
                  <a:pt x="10125" y="257"/>
                </a:lnTo>
                <a:arcTo wR="8775" hR="21600" stAng="-5617159" swAng="-5182841"/>
                <a:close/>
              </a:path>
              <a:path fill="darkenLess" w="21600" h="21600">
                <a:moveTo>
                  <a:pt x="0" y="21600"/>
                </a:moveTo>
                <a:arcTo wR="8775" hR="21600" stAng="10800000" swAng="5400000"/>
                <a:lnTo>
                  <a:pt x="8775" y="0"/>
                </a:lnTo>
                <a:arcTo wR="8775" hR="21600" stAng="-5400000" swAng="217159"/>
                <a:lnTo>
                  <a:pt x="10125" y="257"/>
                </a:lnTo>
                <a:arcTo wR="8775" hR="21600" stAng="-5617159" swAng="-5182841"/>
                <a:close/>
              </a:path>
            </a:pathLst>
          </a:custGeom>
          <a:solidFill>
            <a:srgbClr val="68007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Curved Down Arrow 13"/>
          <p:cNvSpPr/>
          <p:nvPr/>
        </p:nvSpPr>
        <p:spPr>
          <a:xfrm>
            <a:off x="5943600" y="1981080"/>
            <a:ext cx="1066680" cy="533520"/>
          </a:xfrm>
          <a:custGeom>
            <a:avLst/>
            <a:gdLst>
              <a:gd name="textAreaLeft" fmla="*/ 216720 w 1066680"/>
              <a:gd name="textAreaRight" fmla="*/ 783360 w 10666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75" hR="21600" stAng="10800000" swAng="5400000"/>
                <a:lnTo>
                  <a:pt x="11475" y="0"/>
                </a:lnTo>
                <a:arcTo wR="8775" hR="21600" stAng="-5400000" swAng="3453680"/>
                <a:lnTo>
                  <a:pt x="21321" y="16200"/>
                </a:lnTo>
                <a:lnTo>
                  <a:pt x="18900" y="21600"/>
                </a:lnTo>
                <a:lnTo>
                  <a:pt x="15921" y="16200"/>
                </a:lnTo>
                <a:lnTo>
                  <a:pt x="17271" y="16200"/>
                </a:lnTo>
                <a:arcTo wR="8775" hR="21600" stAng="-1946320" swAng="-3236521"/>
                <a:lnTo>
                  <a:pt x="10125" y="257"/>
                </a:lnTo>
                <a:arcTo wR="8775" hR="21600" stAng="-5617159" swAng="-5182841"/>
                <a:close/>
              </a:path>
              <a:path fill="darkenLess" w="21600" h="21600">
                <a:moveTo>
                  <a:pt x="0" y="21600"/>
                </a:moveTo>
                <a:arcTo wR="8775" hR="21600" stAng="10800000" swAng="5400000"/>
                <a:lnTo>
                  <a:pt x="8775" y="0"/>
                </a:lnTo>
                <a:arcTo wR="8775" hR="21600" stAng="-5400000" swAng="217159"/>
                <a:lnTo>
                  <a:pt x="10125" y="257"/>
                </a:lnTo>
                <a:arcTo wR="8775" hR="21600" stAng="-5617159" swAng="-5182841"/>
                <a:close/>
              </a:path>
            </a:pathLst>
          </a:custGeom>
          <a:solidFill>
            <a:srgbClr val="68007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Begin With the End in Mind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ad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Creating Clear Learning Target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nd highlight key poi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/B Partners - Partner A summarizes and B adds; reverse proc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d to Line of Learning - How do clear learning targets relate to the concept of Backward Desig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Not by default, but by design…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82480" y="1847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C:\Users\ychen\AppData\Local\Microsoft\Windows\Temporary Internet Files\Content.IE5\8DYO9J6P\MPj04393320000[1].jpg"/>
          <p:cNvPicPr/>
          <p:nvPr/>
        </p:nvPicPr>
        <p:blipFill>
          <a:blip r:embed="rId1"/>
          <a:stretch/>
        </p:blipFill>
        <p:spPr>
          <a:xfrm>
            <a:off x="1447920" y="1905120"/>
            <a:ext cx="6400800" cy="4114800"/>
          </a:xfrm>
          <a:prstGeom prst="rect">
            <a:avLst/>
          </a:prstGeom>
          <a:ln w="0">
            <a:noFill/>
          </a:ln>
        </p:spPr>
      </p:pic>
      <p:sp>
        <p:nvSpPr>
          <p:cNvPr id="221" name="TextBox 5"/>
          <p:cNvSpPr/>
          <p:nvPr/>
        </p:nvSpPr>
        <p:spPr>
          <a:xfrm>
            <a:off x="1752480" y="2590920"/>
            <a:ext cx="5562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Times New Roman"/>
              </a:rPr>
              <a:t>Double entry journal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Times New Roman"/>
              </a:rPr>
              <a:t>What did she decide to do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Times New Roman"/>
              </a:rPr>
              <a:t>What was she think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aptured in the maps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nk to teachers’ curriculum ma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Line of Learning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does the clear learning target connect to teachers’ unit/lesson desig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other decisions were made during the designing proces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Ying Ying Chen</dc:creator>
  <dc:description/>
  <dc:language>en-US</dc:language>
  <cp:lastModifiedBy>kthorpe</cp:lastModifiedBy>
  <dcterms:modified xsi:type="dcterms:W3CDTF">2009-10-18T23:39:42Z</dcterms:modified>
  <cp:revision>92</cp:revision>
  <dc:subject/>
  <dc:title>An Overview/Review of the Explicit Direct Instruction Model</dc:title>
</cp:coreProperties>
</file>